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3240" y="740880"/>
            <a:ext cx="49291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3526-DE41-447E-9A56-6DE0311F31F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Θέση αριθμού διαφάνειας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3CFD-84EE-4593-A115-3E6BCC9E85C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F1FA-828B-43FF-ACA1-645C4B61D60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est rate rule features only response to inflation and abstain from elements found to be empirical relevant such as output gap response, interest rate smoothing and forward-looking elements (see, e.g., Clarida et al., 200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2BE5-4AB1-4252-B1E8-09EBA2BC621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3 - Θέση αριθμού διαφάνειας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B102-3CA3-439C-BB64-A8D1A3CD5D8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3 - Θέση αριθμού διαφάνειας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655C-6FD7-4D9F-8D98-4E5B7C608A7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n accordance with He and Krishnamurthy (2013) who claim that bank leverage is countercyclical because bank capital is more responsive to shocks than ass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3 - Θέση αριθμού διαφάνειας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AACA-A384-4329-BA1C-3A39905E9E9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Θέση αριθμού διαφάνειας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BED3-849C-466D-981B-5EDD27E6E86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3 - Θέση αριθμού διαφάνειας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A10B-CCD7-480A-91CC-451F2EBA960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3 - Θέση αριθμού διαφάνειας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E2D0-3D48-4A7A-9080-C216D36302A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3 - Θέση αριθμού διαφάνειας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4945-E80A-4C34-88DF-8FD950A2B30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Θέση αριθμού διαφάνειας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8967-411B-48D0-A0D3-D7F4B8884FC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3 - Θέση αριθμού διαφάνειας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A06E-917C-456F-A18A-93EE8896781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Θέση αριθμού διαφάνειας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DA08-BA7C-40E3-B97B-032D5DF0643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Θέση αριθμού διαφάνειας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48E6-FE11-4B34-8AC4-27444E71D75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3 - Θέση αριθμού διαφάνειας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9D47-7BD9-4C68-8E8C-3264306AE2D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e postulate that our determinacy region may depend on the incentiv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aggressive loan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Endogenized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n against the wind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rategy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3 - Θέση αριθμού διαφάνειας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AA5D-8CF3-483A-B4CE-A62AA33A3CA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Θέση αριθμού διαφάνειας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4807-3A96-4ACC-B071-81F170A695C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Θέση αριθμού διαφάνειας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7394-3C78-4616-8CAD-8DD637F7CB5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Θέση αριθμού διαφάνειας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F1A4-EB43-470F-8EF6-50C2F57DF24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Θέση αριθμού διαφάνειας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3199-046B-4CAD-9FB0-ED86BCFF736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AED7-B7DB-42AE-B64F-408BEC63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0744-1822-410D-8FAB-221A8AC2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AAA4-2C5C-4B2A-8309-DF9B98B7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5F92-FCA2-4149-BC2B-8A38DAE8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1C31-5B10-4A46-A189-FD317777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C39E-DA97-4283-8378-A2AC5314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B65-1988-48A3-B5DF-BD09C866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1B4-E12E-4B38-AFA7-8C04EEE5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8F7-EC1A-4969-85F8-E89CC912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A669-BD5D-47DB-B711-1F7FFAAB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868-F1A4-40C4-82A8-97B9CEEF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5D2-00D7-4C31-8C32-471169B6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F6BA-A1B0-4C94-A021-F3DE2FE8DA99}" type="datetime">
              <a:rPr b="0" lang="el-G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Chrysanthopoulou Xakousti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3101-5B40-4302-ADB2-FA4FBE64571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xeniachrysanth@yahoo.g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3D5B-994D-4BDC-B6F6-0806C314F4F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280" y="3357360"/>
            <a:ext cx="7704360" cy="990360"/>
          </a:xfrm>
          <a:prstGeom prst="rect">
            <a:avLst/>
          </a:prstGeom>
          <a:solidFill>
            <a:srgbClr val="99ccff">
              <a:alpha val="3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upply side of credit markets and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st channel of monetary policy</a:t>
            </a:r>
            <a:br>
              <a:rPr sz="2200"/>
            </a:br>
            <a:br>
              <a:rPr sz="22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22360" y="4581360"/>
            <a:ext cx="4357800" cy="14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rysanthopoulou Xakousti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xeniachrysanth@yahoo.g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of Ioannin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132000" y="6237360"/>
            <a:ext cx="56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Ορθογώνιο 1"/>
          <p:cNvSpPr/>
          <p:nvPr/>
        </p:nvSpPr>
        <p:spPr>
          <a:xfrm>
            <a:off x="498600" y="6313320"/>
            <a:ext cx="8002440" cy="108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Ορθογώνιο 2"/>
          <p:cNvSpPr/>
          <p:nvPr/>
        </p:nvSpPr>
        <p:spPr>
          <a:xfrm>
            <a:off x="1692360" y="907920"/>
            <a:ext cx="5616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NK OF ALBAN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5th South-Eastern European Economic Research Worksh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-7 December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614A-34B7-41DF-BA41-B51C5033717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362800" cy="852480"/>
          </a:xfrm>
          <a:prstGeom prst="rect">
            <a:avLst/>
          </a:prstGeom>
          <a:solidFill>
            <a:srgbClr val="99ccff">
              <a:alpha val="2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acroeconomic Authorit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310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409680" y="1197000"/>
            <a:ext cx="3889440" cy="631800"/>
          </a:xfrm>
          <a:prstGeom prst="rect">
            <a:avLst/>
          </a:prstGeom>
          <a:noFill/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acroprudential Autho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4572000" y="1197000"/>
            <a:ext cx="3887640" cy="631800"/>
          </a:xfrm>
          <a:prstGeom prst="rect">
            <a:avLst/>
          </a:prstGeom>
          <a:noFill/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netary Autho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39640" y="1844640"/>
            <a:ext cx="3816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exogenous target for capital requirements,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 (as in Gerali et al., 201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589640" y="1952640"/>
            <a:ext cx="3816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etary policy ru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 specification of monetary policy in order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acilitate straightforward identific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e cost channel 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8"/>
          <p:cNvSpPr/>
          <p:nvPr/>
        </p:nvSpPr>
        <p:spPr>
          <a:xfrm>
            <a:off x="4932360" y="233856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"/>
              </a:rPr>
              <a:t>Degree of anti-inflationary monetary poli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Έλλειψη 29"/>
          <p:cNvSpPr/>
          <p:nvPr/>
        </p:nvSpPr>
        <p:spPr>
          <a:xfrm>
            <a:off x="5435640" y="2924280"/>
            <a:ext cx="288720" cy="288720"/>
          </a:xfrm>
          <a:prstGeom prst="ellipse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Ευθύγραμμο βέλος σύνδεσης 28"/>
          <p:cNvCxnSpPr/>
          <p:nvPr/>
        </p:nvCxnSpPr>
        <p:spPr>
          <a:xfrm flipV="1">
            <a:off x="5579640" y="2780640"/>
            <a:ext cx="1080" cy="18180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1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8"/>
              <p:cNvSpPr txBox="1"/>
              <p:nvPr/>
            </p:nvSpPr>
            <p:spPr>
              <a:xfrm>
                <a:off x="5003640" y="2882880"/>
                <a:ext cx="9367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Π</m:t>
                        </m:r>
                      </m:sub>
                    </m:sSub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Rectangle 12"/>
          <p:cNvSpPr/>
          <p:nvPr/>
        </p:nvSpPr>
        <p:spPr>
          <a:xfrm>
            <a:off x="409680" y="3792600"/>
            <a:ext cx="3889440" cy="631800"/>
          </a:xfrm>
          <a:prstGeom prst="rect">
            <a:avLst/>
          </a:prstGeom>
          <a:noFill/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scal Autho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444600" y="4640400"/>
            <a:ext cx="381636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loyment subsidy,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order to ensure the efficient steady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7E30-3C74-4B10-83D2-9A0250108B9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362800" cy="996840"/>
          </a:xfrm>
          <a:prstGeom prst="rect">
            <a:avLst/>
          </a:prstGeom>
          <a:solidFill>
            <a:srgbClr val="99ccff">
              <a:alpha val="2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ank Sector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1" lang="el-GR" sz="1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rali et al. 2010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7"/>
          <p:cNvSpPr/>
          <p:nvPr/>
        </p:nvSpPr>
        <p:spPr>
          <a:xfrm>
            <a:off x="480960" y="2649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Θέση περιεχομένου 1" descr=""/>
          <p:cNvPicPr/>
          <p:nvPr/>
        </p:nvPicPr>
        <p:blipFill>
          <a:blip r:embed="rId1"/>
          <a:stretch/>
        </p:blipFill>
        <p:spPr>
          <a:xfrm>
            <a:off x="987480" y="1468440"/>
            <a:ext cx="6894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2F55-897A-490E-91CF-84659689D08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5 - Ορθογώνιο" descr=""/>
          <p:cNvPicPr/>
          <p:nvPr/>
        </p:nvPicPr>
        <p:blipFill>
          <a:blip r:embed="rId1"/>
          <a:stretch/>
        </p:blipFill>
        <p:spPr>
          <a:xfrm>
            <a:off x="871560" y="231840"/>
            <a:ext cx="7113600" cy="66816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922320" y="841320"/>
            <a:ext cx="105570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4698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738360" y="230040"/>
            <a:ext cx="7362720" cy="8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Πίνακας 1" descr=""/>
          <p:cNvPicPr/>
          <p:nvPr/>
        </p:nvPicPr>
        <p:blipFill>
          <a:blip r:embed="rId2"/>
          <a:stretch/>
        </p:blipFill>
        <p:spPr>
          <a:xfrm>
            <a:off x="2266920" y="2309760"/>
            <a:ext cx="4987800" cy="4525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1"/>
          <p:cNvSpPr/>
          <p:nvPr/>
        </p:nvSpPr>
        <p:spPr>
          <a:xfrm>
            <a:off x="2081160" y="3719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Πίνακας 3" descr=""/>
          <p:cNvPicPr/>
          <p:nvPr/>
        </p:nvPicPr>
        <p:blipFill>
          <a:blip r:embed="rId3"/>
          <a:stretch/>
        </p:blipFill>
        <p:spPr>
          <a:xfrm>
            <a:off x="2266920" y="3816360"/>
            <a:ext cx="49878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47E6-AAD9-43F8-9C5C-1E7A50E90C4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5 - Ορθογώνιο" descr=""/>
          <p:cNvPicPr/>
          <p:nvPr/>
        </p:nvPicPr>
        <p:blipFill>
          <a:blip r:embed="rId1"/>
          <a:stretch/>
        </p:blipFill>
        <p:spPr>
          <a:xfrm>
            <a:off x="1395360" y="890640"/>
            <a:ext cx="6437520" cy="59180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922320" y="841320"/>
            <a:ext cx="105570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4698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2081160" y="3719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Πίνακας 3" descr=""/>
          <p:cNvPicPr/>
          <p:nvPr/>
        </p:nvPicPr>
        <p:blipFill>
          <a:blip r:embed="rId2"/>
          <a:stretch/>
        </p:blipFill>
        <p:spPr>
          <a:xfrm>
            <a:off x="2408400" y="444600"/>
            <a:ext cx="4992480" cy="446040"/>
          </a:xfrm>
          <a:prstGeom prst="rect">
            <a:avLst/>
          </a:prstGeom>
          <a:ln w="0">
            <a:noFill/>
          </a:ln>
        </p:spPr>
      </p:pic>
      <p:sp>
        <p:nvSpPr>
          <p:cNvPr id="151" name="Έλλειψη 4"/>
          <p:cNvSpPr/>
          <p:nvPr/>
        </p:nvSpPr>
        <p:spPr>
          <a:xfrm>
            <a:off x="5508720" y="404640"/>
            <a:ext cx="1008000" cy="5763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Πίνακας 5" descr=""/>
          <p:cNvPicPr/>
          <p:nvPr/>
        </p:nvPicPr>
        <p:blipFill>
          <a:blip r:embed="rId3"/>
          <a:stretch/>
        </p:blipFill>
        <p:spPr>
          <a:xfrm>
            <a:off x="2114640" y="3382920"/>
            <a:ext cx="4987800" cy="695520"/>
          </a:xfrm>
          <a:prstGeom prst="rect">
            <a:avLst/>
          </a:prstGeom>
          <a:ln w="0">
            <a:noFill/>
          </a:ln>
        </p:spPr>
      </p:pic>
      <p:sp>
        <p:nvSpPr>
          <p:cNvPr id="153" name="Βέλος: Κάτω 7"/>
          <p:cNvSpPr/>
          <p:nvPr/>
        </p:nvSpPr>
        <p:spPr>
          <a:xfrm>
            <a:off x="5767560" y="39600"/>
            <a:ext cx="433080" cy="31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3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8BF6-5ACB-40FA-9A85-2528CFAF81E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5 - Ορθογώνιο" descr=""/>
          <p:cNvPicPr/>
          <p:nvPr/>
        </p:nvPicPr>
        <p:blipFill>
          <a:blip r:embed="rId1"/>
          <a:stretch/>
        </p:blipFill>
        <p:spPr>
          <a:xfrm>
            <a:off x="1395360" y="890640"/>
            <a:ext cx="6437520" cy="48704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922320" y="841320"/>
            <a:ext cx="105570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4698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1"/>
          <p:cNvSpPr/>
          <p:nvPr/>
        </p:nvSpPr>
        <p:spPr>
          <a:xfrm>
            <a:off x="2081160" y="3719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Πίνακας 1" descr=""/>
          <p:cNvPicPr/>
          <p:nvPr/>
        </p:nvPicPr>
        <p:blipFill>
          <a:blip r:embed="rId2"/>
          <a:stretch/>
        </p:blipFill>
        <p:spPr>
          <a:xfrm>
            <a:off x="1670040" y="596880"/>
            <a:ext cx="4992840" cy="5367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Αντικείμενο 7"/>
              <p:cNvSpPr txBox="1"/>
              <p:nvPr/>
            </p:nvSpPr>
            <p:spPr>
              <a:xfrm>
                <a:off x="1690560" y="2066760"/>
                <a:ext cx="515484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r>
                                <m:t xml:space="preserve">↑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⇒</m:t>
                              </m:r>
                              <m:r>
                                <m:t xml:space="preserve">↓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bank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rofits</m:t>
                              </m:r>
                              <m:r>
                                <m:t xml:space="preserve">⇒</m:t>
                              </m:r>
                              <m:r>
                                <m:t xml:space="preserve">↓</m:t>
                              </m:r>
                              <m:sSub>
                                <m:e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⇒</m:t>
                              </m:r>
                              <m:r>
                                <m:t xml:space="preserve">↑</m:t>
                              </m:r>
                              <m:r>
                                <m:t xml:space="preserve">l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e</m:t>
                                  </m:r>
                                </m:e>
                              </m:acc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↑</m:t>
                              </m:r>
                              <m:sSubSup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t xml:space="preserve">e</m:t>
                                  </m:r>
                                </m:sup>
                              </m:sSubSup>
                              <m:r>
                                <m:t xml:space="preserve">⇒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⇒</m:t>
                                        </m:r>
                                        <m:r>
                                          <m:t xml:space="preserve">↑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t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e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−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^"/>
                                                  </m:accPr>
                                                  <m:e>
                                                    <m:r>
                                                      <m:t xml:space="preserve">K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t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  <m:r>
                                          <m:t xml:space="preserve">⇒</m:t>
                                        </m:r>
                                        <m:r>
                                          <m:t xml:space="preserve">↑</m:t>
                                        </m:r>
                                        <m:r>
                                          <m:t xml:space="preserve">l</m:t>
                                        </m:r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</m:acc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</m:e>
                                    </m:mr>
                                    <m:mr>
                                      <m:e>
                                        <m:limUpp>
                                          <m:e>
                                            <m:r>
                                              <m:t xml:space="preserve">⇒</m:t>
                                            </m:r>
                                          </m:e>
                                          <m:lim/>
                                        </m:limUpp>
                                        <m:r>
                                          <m:t xml:space="preserve">↑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ank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rofits</m:t>
                                        </m:r>
                                        <m:r>
                                          <m:t xml:space="preserve">⇒</m:t>
                                        </m:r>
                                        <m:r>
                                          <m:t xml:space="preserve">↑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^"/>
                                              </m:accPr>
                                              <m:e>
                                                <m:r>
                                                  <m:t xml:space="preserve">K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  <m:r>
                                          <m:t xml:space="preserve">⇒</m:t>
                                        </m:r>
                                        <m:r>
                                          <m:t xml:space="preserve">↓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t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e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−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^"/>
                                                  </m:accPr>
                                                  <m:e>
                                                    <m:r>
                                                      <m:t xml:space="preserve">K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t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  <m:r>
                                          <m:t xml:space="preserve">⇒</m:t>
                                        </m:r>
                                        <m:r>
                                          <m:t xml:space="preserve">↓</m:t>
                                        </m:r>
                                        <m:r>
                                          <m:t xml:space="preserve">l</m:t>
                                        </m:r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</m:acc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</m:m>
                                </m:e>
                              </m:d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↓</m:t>
                    </m:r>
                    <m:r>
                      <m:t xml:space="preserve">l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" name="Rectangle 3"/>
          <p:cNvSpPr/>
          <p:nvPr/>
        </p:nvSpPr>
        <p:spPr>
          <a:xfrm>
            <a:off x="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1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A344-238A-4FA5-8B0D-C6DFC3BB1F6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2 - Ορθογώνιο" descr=""/>
          <p:cNvPicPr/>
          <p:nvPr/>
        </p:nvPicPr>
        <p:blipFill>
          <a:blip r:embed="rId1"/>
          <a:stretch/>
        </p:blipFill>
        <p:spPr>
          <a:xfrm>
            <a:off x="969840" y="1122480"/>
            <a:ext cx="720432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1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FA8F-F8C5-4D53-A99F-D7B9A51D2AA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278000" y="333360"/>
            <a:ext cx="66974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buClr>
                <a:srgbClr val="00b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Research Question</a:t>
            </a:r>
            <a:r>
              <a:rPr b="1" lang="en-US" sz="1600" spc="-1" strike="noStrike" u="sng">
                <a:solidFill>
                  <a:srgbClr val="00b050"/>
                </a:solidFill>
                <a:uFillTx/>
                <a:latin typeface="Arial"/>
              </a:rPr>
              <a:t>: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ial frictions from the supply side of the credit marke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ve implications for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rea where monetary policy is active, when the cost channel of MP matt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llowing Leeper (1991), monetary policy is called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f nominal interest rate rises more than one-for-one with the current inflation r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determinacy, the number of eigenvalues of Γ1 (matrix of endogenous variables which are non-predetermined) outside the unit circle must equal the number of non-predetermined endogenous variables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lanchard &amp; Kah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oodford’s (20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methodology for determination of necessary and sufficient condition of equilibrium determinac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Εικόνα 12" descr=""/>
          <p:cNvPicPr/>
          <p:nvPr/>
        </p:nvPicPr>
        <p:blipFill>
          <a:blip r:embed="rId1"/>
          <a:stretch/>
        </p:blipFill>
        <p:spPr>
          <a:xfrm>
            <a:off x="1476360" y="4508640"/>
            <a:ext cx="655308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1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4FD6-9954-4711-8345-6C287E4468B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236600" y="708120"/>
            <a:ext cx="669600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Indeterminacy issues with cost channel of 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ue to the borrowing constraint faced by firms, the Central Bank faces a potentially tight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upper bou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its responsiveness to 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aylor rul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increasing rates does not guarantee lower marginal cos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losa and Tuesta 2009,Bruckner and Schabert, 20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a)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 channe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channe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P  (or cost channel of 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Αντικείμενο 4"/>
              <p:cNvSpPr txBox="1"/>
              <p:nvPr/>
            </p:nvSpPr>
            <p:spPr>
              <a:xfrm>
                <a:off x="2722680" y="3390840"/>
                <a:ext cx="4329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B</m:t>
                    </m:r>
                    <m:r>
                      <m:t xml:space="preserve">↑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π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→</m:t>
                    </m:r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  <m:limUpp>
                                <m:e>
                                  <m:r>
                                    <m:t xml:space="preserve">→</m:t>
                                  </m:r>
                                </m:e>
                                <m:li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KIS</m:t>
                                  </m:r>
                                </m:lim>
                              </m:limUpp>
                              <m:r>
                                <m:t xml:space="preserve">↓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limUpp>
                                <m:e>
                                  <m:r>
                                    <m:t xml:space="preserve">→</m:t>
                                  </m:r>
                                </m:e>
                                <m:li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KPC</m:t>
                                  </m:r>
                                </m:lim>
                              </m:limUpp>
                              <m:r>
                                <m:t xml:space="preserve">↓</m:t>
                              </m:r>
                              <m:sSub>
                                <m:e>
                                  <m:r>
                                    <m:t xml:space="preserve">π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↑</m:t>
                              </m:r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t xml:space="preserve">L</m:t>
                                  </m:r>
                                </m:sup>
                              </m:sSubSup>
                              <m:r>
                                <m:t xml:space="preserve">→</m:t>
                              </m:r>
                              <m:r>
                                <m:t xml:space="preserve">↑</m:t>
                              </m:r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c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t xml:space="preserve">r</m:t>
                                  </m:r>
                                </m:sup>
                              </m:sSubSup>
                              <m:r>
                                <m:t xml:space="preserve">,</m:t>
                              </m:r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/>
                              </m:sSubSup>
                              <m:r>
                                <m:t xml:space="preserve">→</m:t>
                              </m:r>
                              <m:r>
                                <m:t xml:space="preserve">↑</m:t>
                              </m:r>
                              <m:sSub>
                                <m:e>
                                  <m:r>
                                    <m:t xml:space="preserve">π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Αντικείμενο 1"/>
              <p:cNvSpPr txBox="1"/>
              <p:nvPr/>
            </p:nvSpPr>
            <p:spPr>
              <a:xfrm>
                <a:off x="1547640" y="2565360"/>
                <a:ext cx="5749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6" name="Οβάλ 5"/>
          <p:cNvSpPr/>
          <p:nvPr/>
        </p:nvSpPr>
        <p:spPr>
          <a:xfrm>
            <a:off x="5673600" y="3398760"/>
            <a:ext cx="648000" cy="482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Οβάλ 7"/>
          <p:cNvSpPr/>
          <p:nvPr/>
        </p:nvSpPr>
        <p:spPr>
          <a:xfrm>
            <a:off x="6516720" y="3629160"/>
            <a:ext cx="71928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 rot="19486800">
            <a:off x="-791640" y="393480"/>
            <a:ext cx="3147840" cy="626760"/>
          </a:xfrm>
          <a:prstGeom prst="rect">
            <a:avLst/>
          </a:prstGeom>
          <a:solidFill>
            <a:srgbClr val="bbe0e3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anonical mo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of cost-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1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A0B0-FA6E-4A6A-94E7-CADA2AD4EC2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236600" y="412920"/>
            <a:ext cx="669600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are 3 chann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 channe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channe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P  (or cost channel of 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VEL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k leverage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M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Αντικείμενο 4"/>
              <p:cNvSpPr txBox="1"/>
              <p:nvPr/>
            </p:nvSpPr>
            <p:spPr>
              <a:xfrm>
                <a:off x="1382760" y="3017880"/>
                <a:ext cx="700884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B</m:t>
                    </m:r>
                    <m:r>
                      <m:t xml:space="preserve">↑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π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)</m:t>
                    </m:r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  <m:limUpp>
                                <m:e>
                                  <m:r>
                                    <m:t xml:space="preserve">→</m:t>
                                  </m:r>
                                </m:e>
                                <m:li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KIS</m:t>
                                  </m:r>
                                </m:lim>
                              </m:limUpp>
                              <m:r>
                                <m:t xml:space="preserve">↓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m>
                                          <m:mr>
                                            <m:e>
                                              <m:limUpp>
                                                <m:e>
                                                  <m:r>
                                                    <m:t xml:space="preserve">→</m:t>
                                                  </m:r>
                                                </m:e>
                                                <m:lim>
                                                  <m:r>
                                                    <m:rPr>
                                                      <m:lit/>
                                                      <m:nor/>
                                                    </m:rPr>
                                                    <m:t xml:space="preserve">NKPC</m:t>
                                                  </m:r>
                                                </m:lim>
                                              </m:limUpp>
                                              <m:r>
                                                <m:t xml:space="preserve">↓</m:t>
                                              </m:r>
                                              <m:sSub>
                                                <m:e>
                                                  <m:r>
                                                    <m:t xml:space="preserve">π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t</m:t>
                                                  </m:r>
                                                </m:sub>
                                              </m:sSub>
                                              <m:r>
                                                <m:t xml:space="preserve"> </m:t>
                                              </m:r>
                                            </m:e>
                                          </m:mr>
                                          <m:mr>
                                            <m:e/>
                                          </m:mr>
                                        </m:m>
                                        <m:limUpp>
                                          <m:e>
                                            <m:eqArr>
                                              <m:e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Frictions</m:t>
                                                </m:r>
                                              </m:e>
                                            </m:eqArr>
                                          </m:e>
                                          <m:lim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on</m:t>
                                            </m:r>
                                            <m:r>
                                              <m:t xml:space="preserve"> 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credit</m:t>
                                            </m:r>
                                            <m:r>
                                              <m:t xml:space="preserve"> 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sup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ly</m:t>
                                            </m:r>
                                          </m:lim>
                                        </m:limUpp>
                                      </m:e>
                                    </m:mr>
                                  </m:m>
                                  <m:r>
                                    <m:t xml:space="preserve">↑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le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→</m:t>
                                  </m:r>
                                  <m:r>
                                    <m:t xml:space="preserve">↑</m:t>
                                  </m:r>
                                  <m:sSubSup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  <m:sup>
                                      <m:r>
                                        <m:t xml:space="preserve">L</m:t>
                                      </m:r>
                                    </m:sup>
                                  </m:sSubSup>
                                  <m:r>
                                    <m:t xml:space="preserve">→</m:t>
                                  </m:r>
                                  <m:r>
                                    <m:t xml:space="preserve">↑</m:t>
                                  </m:r>
                                  <m:sSub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c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r>
                                    <m:t xml:space="preserve">,</m:t>
                                  </m:r>
                                  <m:sSub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  <m:sup/>
                                  </m:sSubSup>
                                  <m:r>
                                    <m:t xml:space="preserve">→</m:t>
                                  </m:r>
                                  <m:r>
                                    <m:t xml:space="preserve">↑</m:t>
                                  </m:r>
                                  <m:sSub>
                                    <m:e>
                                      <m:r>
                                        <m:t xml:space="preserve">π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  <m:e/>
                                <m:e/>
                                <m:e/>
                                <m:e>
                                  <m:r>
                                    <m:t xml:space="preserve"> </m:t>
                                  </m:r>
                                </m:e>
                                <m:e/>
                              </m:d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↑</m:t>
                              </m:r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t xml:space="preserve">L</m:t>
                                  </m:r>
                                </m:sup>
                              </m:sSubSup>
                              <m:r>
                                <m:t xml:space="preserve">→</m:t>
                              </m:r>
                              <m:r>
                                <m:t xml:space="preserve">↑</m:t>
                              </m:r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c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t xml:space="preserve">r</m:t>
                                  </m:r>
                                </m:sup>
                              </m:sSubSup>
                              <m:r>
                                <m:t xml:space="preserve">,</m:t>
                              </m:r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/>
                              </m:sSubSup>
                              <m:r>
                                <m:t xml:space="preserve">→</m:t>
                              </m:r>
                              <m:r>
                                <m:t xml:space="preserve">↑</m:t>
                              </m:r>
                              <m:sSub>
                                <m:e>
                                  <m:r>
                                    <m:t xml:space="preserve">π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2" name="Οβάλ 5"/>
          <p:cNvSpPr/>
          <p:nvPr/>
        </p:nvSpPr>
        <p:spPr>
          <a:xfrm>
            <a:off x="3924360" y="3056040"/>
            <a:ext cx="647640" cy="482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Οβάλ 7"/>
          <p:cNvSpPr/>
          <p:nvPr/>
        </p:nvSpPr>
        <p:spPr>
          <a:xfrm>
            <a:off x="6804000" y="3494160"/>
            <a:ext cx="71928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Οβάλ 8"/>
          <p:cNvSpPr/>
          <p:nvPr/>
        </p:nvSpPr>
        <p:spPr>
          <a:xfrm>
            <a:off x="4788000" y="4086360"/>
            <a:ext cx="792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 rot="19486800">
            <a:off x="-791640" y="393480"/>
            <a:ext cx="3147840" cy="626760"/>
          </a:xfrm>
          <a:prstGeom prst="rect">
            <a:avLst/>
          </a:prstGeom>
          <a:solidFill>
            <a:srgbClr val="bbe0e3"/>
          </a:soli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 this mo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Βέλος: Κάτω 7"/>
          <p:cNvSpPr/>
          <p:nvPr/>
        </p:nvSpPr>
        <p:spPr>
          <a:xfrm>
            <a:off x="6946920" y="3081240"/>
            <a:ext cx="433440" cy="31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"/>
          <p:cNvSpPr/>
          <p:nvPr/>
        </p:nvSpPr>
        <p:spPr>
          <a:xfrm>
            <a:off x="6580080" y="2652840"/>
            <a:ext cx="12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VEL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36DB-72C6-41D4-8DB5-5EADF16DCDF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900000" y="189000"/>
            <a:ext cx="3095640" cy="647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1042920" y="214200"/>
            <a:ext cx="2772000" cy="838440"/>
          </a:xfrm>
          <a:prstGeom prst="rect">
            <a:avLst/>
          </a:prstGeom>
          <a:noFill/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c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4637160" y="189000"/>
            <a:ext cx="3997080" cy="588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4992840" y="189000"/>
            <a:ext cx="3286080" cy="718920"/>
          </a:xfrm>
          <a:prstGeom prst="rect">
            <a:avLst/>
          </a:prstGeom>
          <a:noFill/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Credit supply is constrained by regulatory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42840" y="3657600"/>
            <a:ext cx="23558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etary policy should be «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» and follow the standard «Taylor Principle», with no lower bound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7 - Ορθογώνιο"/>
          <p:cNvSpPr/>
          <p:nvPr/>
        </p:nvSpPr>
        <p:spPr>
          <a:xfrm>
            <a:off x="641520" y="1211400"/>
            <a:ext cx="79927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der, a current-looking interest rate rule, the  REE is locally unique, when in terms of the monetary coefficient it must be the case that:</a:t>
            </a: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"/>
              <p:cNvSpPr txBox="1"/>
              <p:nvPr/>
            </p:nvSpPr>
            <p:spPr>
              <a:xfrm>
                <a:off x="585720" y="3102120"/>
                <a:ext cx="1127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Π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7"/>
              <p:cNvSpPr txBox="1"/>
              <p:nvPr/>
            </p:nvSpPr>
            <p:spPr>
              <a:xfrm>
                <a:off x="5578560" y="2887560"/>
                <a:ext cx="19494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groupChr>
                              <m:groupChrPr>
                                <m:chr m:val="⏞"/>
                                <m:pos m:val="top"/>
                                <m:vertJc m:val="bot"/>
                              </m:groupChr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b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−</m:t>
                            </m:r>
                          </m:lim>
                        </m:limUpp>
                        <m:r>
                          <m:t xml:space="preserve">,</m:t>
                        </m:r>
                        <m:r>
                          <m:t xml:space="preserve">σ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0" name="Έλλειψη 17"/>
          <p:cNvSpPr/>
          <p:nvPr/>
        </p:nvSpPr>
        <p:spPr>
          <a:xfrm>
            <a:off x="6607080" y="2201760"/>
            <a:ext cx="419040" cy="432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29 - Ευθύγραμμο βέλος σύνδεσης"/>
          <p:cNvCxnSpPr/>
          <p:nvPr/>
        </p:nvCxnSpPr>
        <p:spPr>
          <a:xfrm flipH="1">
            <a:off x="6579360" y="2577960"/>
            <a:ext cx="72360" cy="21672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202" name="Έλλειψη 17"/>
          <p:cNvSpPr/>
          <p:nvPr/>
        </p:nvSpPr>
        <p:spPr>
          <a:xfrm>
            <a:off x="6156360" y="2948040"/>
            <a:ext cx="495360" cy="552240"/>
          </a:xfrm>
          <a:prstGeom prst="ellipse">
            <a:avLst/>
          </a:prstGeom>
          <a:solidFill>
            <a:srgbClr val="bfbfbf">
              <a:alpha val="50000"/>
            </a:srgbClr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385920" y="5407200"/>
            <a:ext cx="2087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lower bound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ttractive “Inflation Targeting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no need to know the structure of the econom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179280" y="2104920"/>
            <a:ext cx="2082960" cy="719280"/>
          </a:xfrm>
          <a:prstGeom prst="rect">
            <a:avLst/>
          </a:prstGeom>
          <a:noFill/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Ɇ Cost channel of 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2587680" y="2098800"/>
            <a:ext cx="1920960" cy="718920"/>
          </a:xfrm>
          <a:prstGeom prst="rect">
            <a:avLst/>
          </a:prstGeom>
          <a:noFill/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 Cost channel of 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Ορθογώνιο 3"/>
          <p:cNvSpPr/>
          <p:nvPr/>
        </p:nvSpPr>
        <p:spPr>
          <a:xfrm>
            <a:off x="2484360" y="4251240"/>
            <a:ext cx="208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etary policy should be «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» and follow the standard «Taylor Principle» with a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er b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"/>
              <p:cNvSpPr txBox="1"/>
              <p:nvPr/>
            </p:nvSpPr>
            <p:spPr>
              <a:xfrm>
                <a:off x="5846760" y="2182680"/>
                <a:ext cx="11793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Π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"/>
              <p:cNvSpPr txBox="1"/>
              <p:nvPr/>
            </p:nvSpPr>
            <p:spPr>
              <a:xfrm>
                <a:off x="2859120" y="3002040"/>
                <a:ext cx="11588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Π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7"/>
              <p:cNvSpPr txBox="1"/>
              <p:nvPr/>
            </p:nvSpPr>
            <p:spPr>
              <a:xfrm>
                <a:off x="2717640" y="3711600"/>
                <a:ext cx="16750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σ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Ορθογώνιο 3"/>
          <p:cNvSpPr/>
          <p:nvPr/>
        </p:nvSpPr>
        <p:spPr>
          <a:xfrm>
            <a:off x="5607000" y="3801960"/>
            <a:ext cx="26719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etary policy should be «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» and follow the standard «Taylor Principle» with a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er b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etary policy should be «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» and follow the standard «Taylor Principle»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ower bound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Αντικείμενο 2"/>
              <p:cNvSpPr txBox="1"/>
              <p:nvPr/>
            </p:nvSpPr>
            <p:spPr>
              <a:xfrm>
                <a:off x="6156360" y="5018040"/>
                <a:ext cx="11574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Π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5 - Θέση αριθμού διαφάνειας"/>
          <p:cNvSpPr/>
          <p:nvPr/>
        </p:nvSpPr>
        <p:spPr>
          <a:xfrm>
            <a:off x="6588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A240-B44F-443D-8FD3-C29D4CF710D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98360" y="765000"/>
            <a:ext cx="8532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st channel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of monetary policy and determin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ms need to borrow funds to pay for their wage bill before selling their product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905360" y="1546200"/>
            <a:ext cx="3816360" cy="51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important strand of literature has shown that the cost channel of monetary policy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y pose a significant hurdle to inflation targeting central ban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ing inflation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shrinks the determinacy regio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interest rate rules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ckner and Schabert, 2003; Surico, 2008; Llosa and Tuesta, 2009; and Christiano et al., 2010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because policy rates increase not only lowers demand, but also translates into higher marginal costs and thus inf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01480" y="1546200"/>
            <a:ext cx="4104000" cy="51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ms relate their price decisions to credit conditions as their marginal costs are directly affected by interest rat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arth and Ramey, 2000; Ravenna and Walsh, 20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st-channel: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↑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↑ mc</a:t>
            </a:r>
            <a:r>
              <a:rPr b="1" lang="en-US" sz="1800" spc="-1" strike="noStrike" baseline="30000">
                <a:solidFill>
                  <a:srgbClr val="333399"/>
                </a:solidFill>
                <a:latin typeface="Arial"/>
              </a:rPr>
              <a:t>r </a:t>
            </a:r>
            <a:r>
              <a:rPr b="1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↑p</a:t>
            </a:r>
            <a:r>
              <a:rPr b="1" lang="en-US" sz="1800" spc="-1" strike="noStrike" baseline="30000">
                <a:solidFill>
                  <a:srgbClr val="333399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↑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ntional 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↓c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↓y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↓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ditional  demand channel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upply effect of MP dominates the demand effec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rth and Ramey, 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hristiano et al. 2005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st channel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empirical relevant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ee for the U.S., Barth and Ramey, 2000, for Europe Dedola and Lippi, 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for the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euro area, Fabiani et al., 2006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hristiano, Eichenbaum, and Evans, 2005, and Agénor and Alper, 2012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Οβάλ 1"/>
          <p:cNvSpPr/>
          <p:nvPr/>
        </p:nvSpPr>
        <p:spPr>
          <a:xfrm>
            <a:off x="2916360" y="3036960"/>
            <a:ext cx="647640" cy="633240"/>
          </a:xfrm>
          <a:prstGeom prst="ellipse">
            <a:avLst/>
          </a:prstGeom>
          <a:noFill/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5520" y="188640"/>
            <a:ext cx="8229600" cy="633240"/>
          </a:xfrm>
          <a:prstGeom prst="rect">
            <a:avLst/>
          </a:prstGeom>
          <a:solidFill>
            <a:srgbClr val="99ccff">
              <a:alpha val="2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Θέση αριθμού διαφάνειας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A47E-B338-453F-9F4D-D3739832640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5 - Ορθογώνιο"/>
          <p:cNvSpPr/>
          <p:nvPr/>
        </p:nvSpPr>
        <p:spPr>
          <a:xfrm>
            <a:off x="839880" y="230040"/>
            <a:ext cx="705636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MS PGothic"/>
              </a:rPr>
              <a:t>                                         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MS PGothic"/>
              </a:rPr>
              <a:t>PROPOSITION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 a current-looking policy rule, inflation target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y not suffer from shrinking regions of determinacy as long 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weight of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and channe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monetary policy transmission is relatively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arg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n the weight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the cost and the bank’s leverage chan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contrast, ther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y be an upper bou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central bank’s inflation response necessary to rule out the possibility of self-fulfilling inflation expectation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relative importance of both the cost and the bank’s leverage channel is larger than the demand chann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MS PGothic"/>
              </a:rPr>
              <a:t>PROPOSI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Rectangle 3" descr=""/>
          <p:cNvPicPr/>
          <p:nvPr/>
        </p:nvPicPr>
        <p:blipFill>
          <a:blip r:embed="rId1"/>
          <a:stretch/>
        </p:blipFill>
        <p:spPr>
          <a:xfrm>
            <a:off x="878040" y="4164120"/>
            <a:ext cx="72658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8BAE-709D-4D07-9186-090E42AE8EF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99ccff">
              <a:alpha val="2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684360" y="1068480"/>
            <a:ext cx="7753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stud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ggest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ole of credit supply fri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acy equilibr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Further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corporate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se aspects in an economy where th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b050"/>
                </a:solidFill>
                <a:latin typeface="Arial"/>
              </a:rPr>
              <a:t>Zero Lower Bound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s binding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 order to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nswer the question whether “Negative interests rates are expansionary or not”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ggertsson (2019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Αντικείμενο 4"/>
              <p:cNvSpPr txBox="1"/>
              <p:nvPr/>
            </p:nvSpPr>
            <p:spPr>
              <a:xfrm>
                <a:off x="1079640" y="4606920"/>
                <a:ext cx="73580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ZLB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Deposits</m:t>
                            </m:r>
                          </m:sup>
                        </m:sSubSup>
                      </m:e>
                    </m:ba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olicy</m:t>
                        </m:r>
                      </m:sup>
                    </m:sSubSup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  <m:limUpp>
                                <m:e>
                                  <m:r>
                                    <m:t xml:space="preserve">→</m:t>
                                  </m:r>
                                </m:e>
                                <m:lim>
                                  <m:bar>
                                    <m:barPr>
                                      <m:pos m:val="top"/>
                                    </m:barPr>
                                    <m:e>
                                      <m:sSubSup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  <m:sup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eposits</m:t>
                                          </m:r>
                                        </m:sup>
                                      </m:sSubSup>
                                    </m:e>
                                  </m:bar>
                                </m:lim>
                              </m:limUpp>
                              <m:bar>
                                <m:barPr>
                                  <m:pos m:val="top"/>
                                </m:barPr>
                                <m:e>
                                  <m:sSubSup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  <m:sup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bE</m:t>
                                      </m:r>
                                    </m:sup>
                                  </m:sSubSup>
                                </m:e>
                              </m:bar>
                              <m:r>
                                <m:t xml:space="preserve">(</m:t>
                              </m:r>
                              <m:r>
                                <m:t xml:space="preserve">λό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γω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ΤΑ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banks</m:t>
                              </m:r>
                              <m:r>
                                <m:t xml:space="preserve">)</m:t>
                              </m:r>
                              <m:r>
                                <m:t xml:space="preserve">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ba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↓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bank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rofits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↑</m:t>
                              </m:r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E</m:t>
                                  </m:r>
                                </m:sup>
                              </m:sSubSup>
                              <m:r>
                                <m:t xml:space="preserve">→</m:t>
                              </m:r>
                              <m:r>
                                <m:t xml:space="preserve">↓</m:t>
                              </m:r>
                              <m:r>
                                <m:t xml:space="preserve"> </m:t>
                              </m:r>
                              <m:r>
                                <m:t xml:space="preserve">y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restrictionary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P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EAA2-7ED3-4DA1-88CA-49952DD51DF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4"/>
          <p:cNvSpPr txBox="1"/>
          <p:nvPr/>
        </p:nvSpPr>
        <p:spPr>
          <a:xfrm>
            <a:off x="1692360" y="2421000"/>
            <a:ext cx="60879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 you for your atten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116000" y="765000"/>
            <a:ext cx="7128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5 - Θέση αριθμού διαφάνειας"/>
          <p:cNvSpPr/>
          <p:nvPr/>
        </p:nvSpPr>
        <p:spPr>
          <a:xfrm>
            <a:off x="6588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6141-3A78-47BA-9359-91057C47F19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095480" y="907920"/>
            <a:ext cx="69325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ever, in this literature, ei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banks are supposed to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ct as neutral conveyo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monetary polic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hristiano, Eichenbaum, and Evans, 2005; and Ravenna and Walsh, 2006)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the incomplete interest rate pass-through is modeled by hinging on th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incidence of bank profits with the interest rate margi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.g.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wdhurry et al., 2006, 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Pfajfar and Santoto, 2014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t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nks cost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lated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banks' capital position due t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croprudential regulatio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.g. Basel regulation)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were neglected</a:t>
            </a:r>
            <a:r>
              <a:rPr b="1" lang="el-GR" sz="1600" spc="-1" strike="noStrike" u="sng">
                <a:solidFill>
                  <a:srgbClr val="ff0000"/>
                </a:solidFill>
                <a:uFillTx/>
                <a:latin typeface="Arial"/>
              </a:rPr>
              <a:t> 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cost channel literature regarding stability iss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ever, the financial crisis has shown how shifts in credit supply can indeed have a crucial role in macroeconomic fluctu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 rot="19931400">
            <a:off x="203760" y="3438360"/>
            <a:ext cx="125424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P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3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0B26-6C85-459C-B07C-17813E1D05C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633240"/>
          </a:xfrm>
          <a:prstGeom prst="rect">
            <a:avLst/>
          </a:prstGeom>
          <a:solidFill>
            <a:srgbClr val="99ccff">
              <a:alpha val="2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im of the 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900000" y="1701720"/>
            <a:ext cx="6840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im of this paper is to extend this literature b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igat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 of the cost channel on determinacy equilibriu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ing the case where a credit supply channel arising due to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 level for banks’ lever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recisely, a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Gerali et al. (2010)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assume that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ly of cred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the real economy (firms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constrained by the availability of bank capit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in the Basel regul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which can only be accumulated through retained earning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friction gives a potentially </a:t>
            </a:r>
            <a:r>
              <a:rPr b="1" i="1" lang="en-US" sz="1600" spc="-1" strike="noStrike">
                <a:solidFill>
                  <a:srgbClr val="00b050"/>
                </a:solidFill>
                <a:latin typeface="Arial"/>
              </a:rPr>
              <a:t>powerful role to macroprudential policy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1600" spc="-1" strike="noStrike">
                <a:solidFill>
                  <a:srgbClr val="00b050"/>
                </a:solidFill>
                <a:latin typeface="Arial"/>
              </a:rPr>
              <a:t>introduces a feedback loop</a:t>
            </a:r>
            <a:r>
              <a:rPr b="0" i="1" lang="en-US" sz="16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ween the real and the financial side of the econom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Θέση αριθμού διαφάνειας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1B0C-D7A9-457E-9693-DAE98812959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332000" y="836640"/>
            <a:ext cx="66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rive the analytical conditio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prevent indeterminacy when the structure of the economy is purely forward-looking and the interest rate responds to current inflati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oing so, I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light the significance of the macroprudential limits for banks for the determinacy of the R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 main finding:</a:t>
            </a:r>
            <a:r>
              <a:rPr b="1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ation target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y suffer from shrinking regio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determinac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happens, in particular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regulators discourage high levels of leverage by setting a higher bank’s target capital-to-asset rati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/or the costs for deviating from that target are hig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Δεξιό βέλος 4"/>
          <p:cNvSpPr/>
          <p:nvPr/>
        </p:nvSpPr>
        <p:spPr>
          <a:xfrm>
            <a:off x="531720" y="2924280"/>
            <a:ext cx="792360" cy="7920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186920" y="1333080"/>
            <a:ext cx="648036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ame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ggregate 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terminancy of the 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lusions – Furthe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9611-CD06-4952-9F36-82EB50AE3D9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99ccff">
              <a:alpha val="2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The presentation is organized as follow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3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F02B-15AD-42AC-A5BB-9A276000E06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4 - Ορθογώνιο" descr=""/>
          <p:cNvPicPr/>
          <p:nvPr/>
        </p:nvPicPr>
        <p:blipFill>
          <a:blip r:embed="rId1"/>
          <a:stretch/>
        </p:blipFill>
        <p:spPr>
          <a:xfrm>
            <a:off x="1262160" y="762120"/>
            <a:ext cx="6553080" cy="45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Ορθογώνιο: Στρογγύλεμα γωνιών 31"/>
          <p:cNvSpPr/>
          <p:nvPr/>
        </p:nvSpPr>
        <p:spPr>
          <a:xfrm>
            <a:off x="735120" y="2058840"/>
            <a:ext cx="2581200" cy="615960"/>
          </a:xfrm>
          <a:prstGeom prst="roundRect">
            <a:avLst>
              <a:gd name="adj" fmla="val 10000"/>
            </a:avLst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 - Θέση αριθμού διαφάνειας"/>
          <p:cNvSpPr/>
          <p:nvPr/>
        </p:nvSpPr>
        <p:spPr>
          <a:xfrm>
            <a:off x="6553080" y="6070680"/>
            <a:ext cx="21337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D894-8FDB-445B-A95A-0008B6A9CCA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Ομάδα 1"/>
          <p:cNvGrpSpPr/>
          <p:nvPr/>
        </p:nvGrpSpPr>
        <p:grpSpPr>
          <a:xfrm>
            <a:off x="768240" y="612720"/>
            <a:ext cx="7394760" cy="5316480"/>
            <a:chOff x="768240" y="612720"/>
            <a:chExt cx="7394760" cy="5316480"/>
          </a:xfrm>
        </p:grpSpPr>
        <p:grpSp>
          <p:nvGrpSpPr>
            <p:cNvPr id="77" name="12 - Ομάδα"/>
            <p:cNvGrpSpPr/>
            <p:nvPr/>
          </p:nvGrpSpPr>
          <p:grpSpPr>
            <a:xfrm>
              <a:off x="768240" y="612720"/>
              <a:ext cx="7394760" cy="4610520"/>
              <a:chOff x="768240" y="612720"/>
              <a:chExt cx="7394760" cy="4610520"/>
            </a:xfrm>
          </p:grpSpPr>
          <p:pic>
            <p:nvPicPr>
              <p:cNvPr id="78" name="5 - Διάγραμμα" descr=""/>
              <p:cNvPicPr/>
              <p:nvPr/>
            </p:nvPicPr>
            <p:blipFill>
              <a:blip r:embed="rId1"/>
              <a:stretch/>
            </p:blipFill>
            <p:spPr>
              <a:xfrm>
                <a:off x="768240" y="612720"/>
                <a:ext cx="7394760" cy="39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Στρογγυλεμένο ορθογώνιο 4"/>
              <p:cNvSpPr/>
              <p:nvPr/>
            </p:nvSpPr>
            <p:spPr>
              <a:xfrm>
                <a:off x="3427560" y="1342800"/>
                <a:ext cx="1897200" cy="85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64800" bIns="648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37"/>
                  </a:spcAft>
                  <a:tabLst>
                    <a:tab algn="l" pos="0"/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Ευθεία γραμμή σύνδεσης 3"/>
              <p:cNvSpPr/>
              <p:nvPr/>
            </p:nvSpPr>
            <p:spPr>
              <a:xfrm>
                <a:off x="2917080" y="4011480"/>
                <a:ext cx="1578600" cy="493920"/>
              </a:xfrm>
              <a:custGeom>
                <a:avLst/>
                <a:gdLst>
                  <a:gd name="textAreaLeft" fmla="*/ 0 w 1578600"/>
                  <a:gd name="textAreaRight" fmla="*/ 1578960 w 157860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255734" h="540377">
                    <a:moveTo>
                      <a:pt x="0" y="0"/>
                    </a:moveTo>
                    <a:lnTo>
                      <a:pt x="0" y="368737"/>
                    </a:lnTo>
                    <a:lnTo>
                      <a:pt x="1454455" y="368737"/>
                    </a:lnTo>
                    <a:lnTo>
                      <a:pt x="1454455" y="541091"/>
                    </a:lnTo>
                  </a:path>
                </a:pathLst>
              </a:custGeom>
              <a:noFill/>
              <a:ln w="25560">
                <a:solidFill>
                  <a:srgbClr val="a9cb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Ευθεία γραμμή σύνδεσης 3"/>
              <p:cNvSpPr/>
              <p:nvPr/>
            </p:nvSpPr>
            <p:spPr>
              <a:xfrm flipH="1">
                <a:off x="4079880" y="4011480"/>
                <a:ext cx="2160360" cy="493920"/>
              </a:xfrm>
              <a:custGeom>
                <a:avLst/>
                <a:gdLst>
                  <a:gd name="textAreaLeft" fmla="*/ -360 w 2160360"/>
                  <a:gd name="textAreaRight" fmla="*/ 2160360 w 21603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718440" h="540377">
                    <a:moveTo>
                      <a:pt x="0" y="0"/>
                    </a:moveTo>
                    <a:lnTo>
                      <a:pt x="0" y="368737"/>
                    </a:lnTo>
                    <a:lnTo>
                      <a:pt x="1454455" y="368737"/>
                    </a:lnTo>
                    <a:lnTo>
                      <a:pt x="1454455" y="541091"/>
                    </a:lnTo>
                  </a:path>
                </a:pathLst>
              </a:custGeom>
              <a:noFill/>
              <a:ln w="25560">
                <a:solidFill>
                  <a:srgbClr val="a9cb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17 - Στρογγυλεμένο ορθογώνιο"/>
              <p:cNvSpPr/>
              <p:nvPr/>
            </p:nvSpPr>
            <p:spPr>
              <a:xfrm>
                <a:off x="1587240" y="4480920"/>
                <a:ext cx="6395400" cy="734760"/>
              </a:xfrm>
              <a:prstGeom prst="roundRect">
                <a:avLst>
                  <a:gd name="adj" fmla="val 10000"/>
                </a:avLst>
              </a:prstGeom>
              <a:solidFill>
                <a:srgbClr val="bbe0e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18 - Ομάδα"/>
              <p:cNvGrpSpPr/>
              <p:nvPr/>
            </p:nvGrpSpPr>
            <p:grpSpPr>
              <a:xfrm>
                <a:off x="2004120" y="4440960"/>
                <a:ext cx="6146640" cy="782280"/>
                <a:chOff x="2004120" y="4440960"/>
                <a:chExt cx="6146640" cy="782280"/>
              </a:xfrm>
            </p:grpSpPr>
            <p:sp>
              <p:nvSpPr>
                <p:cNvPr id="84" name="19 - Στρογγυλεμένο ορθογώνιο"/>
                <p:cNvSpPr/>
                <p:nvPr/>
              </p:nvSpPr>
              <p:spPr>
                <a:xfrm>
                  <a:off x="2004120" y="4616640"/>
                  <a:ext cx="6146640" cy="5742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Στρογγυλεμένο ορθογώνιο 4"/>
                <p:cNvSpPr/>
                <p:nvPr/>
              </p:nvSpPr>
              <p:spPr>
                <a:xfrm>
                  <a:off x="2170440" y="4440960"/>
                  <a:ext cx="5897880" cy="78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840" rIns="60840" tIns="60840" bIns="60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Arial"/>
                    </a:rPr>
                    <a:t>Framework for monetary policy analysi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spcAft>
                      <a:spcPts val="788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" name="19 - Στρογγυλεμένο ορθογώνιο"/>
            <p:cNvSpPr/>
            <p:nvPr/>
          </p:nvSpPr>
          <p:spPr>
            <a:xfrm>
              <a:off x="3534480" y="5408640"/>
              <a:ext cx="2282760" cy="520560"/>
            </a:xfrm>
            <a:prstGeom prst="roundRect">
              <a:avLst>
                <a:gd name="adj" fmla="val 10000"/>
              </a:avLst>
            </a:prstGeom>
            <a:solidFill>
              <a:srgbClr val="bbe0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20 - Ομάδα"/>
            <p:cNvGrpSpPr/>
            <p:nvPr/>
          </p:nvGrpSpPr>
          <p:grpSpPr>
            <a:xfrm>
              <a:off x="3506760" y="5305320"/>
              <a:ext cx="2317680" cy="623880"/>
              <a:chOff x="3506760" y="5305320"/>
              <a:chExt cx="2317680" cy="623880"/>
            </a:xfrm>
          </p:grpSpPr>
          <p:sp>
            <p:nvSpPr>
              <p:cNvPr id="88" name="21 - Στρογγυλεμένο ορθογώνιο"/>
              <p:cNvSpPr/>
              <p:nvPr/>
            </p:nvSpPr>
            <p:spPr>
              <a:xfrm>
                <a:off x="3641400" y="5305320"/>
                <a:ext cx="2068560" cy="623880"/>
              </a:xfrm>
              <a:prstGeom prst="roundRect">
                <a:avLst>
                  <a:gd name="adj" fmla="val 10000"/>
                </a:avLst>
              </a:prstGeom>
              <a:solidFill>
                <a:srgbClr val="ffffff">
                  <a:alpha val="90000"/>
                </a:srgbClr>
              </a:solidFill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Στρογγυλεμένο ορθογώνιο 4"/>
              <p:cNvSpPr/>
              <p:nvPr/>
            </p:nvSpPr>
            <p:spPr>
              <a:xfrm>
                <a:off x="3506760" y="5333760"/>
                <a:ext cx="2317680" cy="59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68760" bIns="68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99"/>
                    </a:solidFill>
                    <a:latin typeface="Arial"/>
                  </a:rPr>
                  <a:t>Stability properties o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99"/>
                    </a:solidFill>
                    <a:latin typeface="Arial"/>
                  </a:rPr>
                  <a:t>simple interest rul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Ομάδα 28"/>
          <p:cNvGrpSpPr/>
          <p:nvPr/>
        </p:nvGrpSpPr>
        <p:grpSpPr>
          <a:xfrm>
            <a:off x="662040" y="2255760"/>
            <a:ext cx="2465280" cy="615960"/>
            <a:chOff x="662040" y="2255760"/>
            <a:chExt cx="2465280" cy="615960"/>
          </a:xfrm>
        </p:grpSpPr>
        <p:sp>
          <p:nvSpPr>
            <p:cNvPr id="91" name="Ορθογώνιο: Στρογγύλεμα γωνιών 29"/>
            <p:cNvSpPr/>
            <p:nvPr/>
          </p:nvSpPr>
          <p:spPr>
            <a:xfrm>
              <a:off x="726840" y="2255760"/>
              <a:ext cx="2374920" cy="61596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Ορθογώνιο: Στρογγύλεμα γωνιών 4"/>
            <p:cNvSpPr/>
            <p:nvPr/>
          </p:nvSpPr>
          <p:spPr>
            <a:xfrm>
              <a:off x="662040" y="2333520"/>
              <a:ext cx="24652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Monet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l-GR" sz="1800" spc="-1" strike="noStrike">
                  <a:solidFill>
                    <a:srgbClr val="333399"/>
                  </a:solidFill>
                  <a:latin typeface="Arial"/>
                </a:rPr>
                <a:t>Α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uthority:</a:t>
              </a:r>
              <a:r>
                <a:rPr b="1" lang="el-GR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Ορθογώνιο 1"/>
          <p:cNvSpPr/>
          <p:nvPr/>
        </p:nvSpPr>
        <p:spPr>
          <a:xfrm>
            <a:off x="6041880" y="2293920"/>
            <a:ext cx="202428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Macroprudential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uthority,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Ευθεία γραμμή σύνδεσης 6"/>
          <p:cNvSpPr/>
          <p:nvPr/>
        </p:nvSpPr>
        <p:spPr>
          <a:xfrm>
            <a:off x="5651640" y="2674800"/>
            <a:ext cx="608040" cy="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Ευθεία γραμμή σύνδεσης 34"/>
          <p:cNvSpPr/>
          <p:nvPr/>
        </p:nvSpPr>
        <p:spPr>
          <a:xfrm>
            <a:off x="2070000" y="2884320"/>
            <a:ext cx="0" cy="6130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Θέση αριθμού διαφάνειας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246C-819A-49A5-807A-7B9553545E8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Ορθογώνιο 2"/>
          <p:cNvSpPr/>
          <p:nvPr/>
        </p:nvSpPr>
        <p:spPr>
          <a:xfrm>
            <a:off x="1042920" y="1125360"/>
            <a:ext cx="6950160" cy="50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The closed economy consists of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  <a:ea typeface="Calibri"/>
              </a:rPr>
              <a:t>Household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 take consumption-saving and labor-leisure decisions to maximize their expected lifetime utility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Calibri"/>
              </a:rPr>
              <a:t>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ant relative risk aversion (CRRA) utility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  <a:ea typeface="Calibri"/>
              </a:rPr>
              <a:t>Manufacturing firms</a:t>
            </a:r>
            <a:r>
              <a:rPr b="0" lang="en-US" sz="1600" spc="-1" strike="noStrike">
                <a:solidFill>
                  <a:srgbClr val="00b050"/>
                </a:solidFill>
                <a:latin typeface="Arial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roduce intermediate goods with labor as the only input. These firms use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composite of heterogeneous ban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loans to financ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working capital need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(a fraction of the wage bill has to be paid at the beginning of the period before sales revenues are realize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  <a:ea typeface="Calibri"/>
              </a:rPr>
              <a:t>Retail firm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(Monopolistically competitive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subject 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Calvo-typ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nominal rigidities - produce final consumption goods using intermediate good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  <a:ea typeface="Calibri"/>
              </a:rPr>
              <a:t>Ban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 use households’ savings and bank capital to provide loans in a monopolistically competitive mark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Ορθογώνιο 1"/>
          <p:cNvSpPr/>
          <p:nvPr/>
        </p:nvSpPr>
        <p:spPr>
          <a:xfrm>
            <a:off x="857160" y="303120"/>
            <a:ext cx="731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policy bloc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the model, follows from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avenna and Walsh (2006)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tend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w for endogenous dependence of loan spreads on banks’ leverage as 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Gerali et al.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12:10:42Z</dcterms:created>
  <dc:creator>xeniachr</dc:creator>
  <dc:description/>
  <dc:language>en-US</dc:language>
  <cp:lastModifiedBy>teaisth1</cp:lastModifiedBy>
  <cp:lastPrinted>2021-06-07T08:11:12Z</cp:lastPrinted>
  <dcterms:modified xsi:type="dcterms:W3CDTF">2021-12-05T16:37:41Z</dcterms:modified>
  <cp:revision>496</cp:revision>
  <dc:subject/>
  <dc:title>Optimal monetary stabilization in the presence of strategic interactions between fiscal policy and trade unions: A New Keynesian perspective</dc:title>
</cp:coreProperties>
</file>